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BC2-0C3F-450B-AFF7-A1A83A0C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159-4ED7-4C0D-8337-577E247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921FB-93BC-4F86-B16E-E75A0A48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AEDB4-5CD0-43C8-BD55-444EEF3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89AE2-72F1-4A3A-A05D-ABC1490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47C69-A6B3-4EBD-9CD8-13F136E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56E9A-3F14-40A9-8B18-72C612B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FF2A-8781-4F4B-B44B-B654147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FAD68-3EC2-4B25-89DA-656A1C0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C6A2-35A5-4AFE-9A3B-CF1CAF4E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1E871-BC27-44F2-AC72-8E67041D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D961E-49D8-4F50-B158-7CE6B64B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4D8-AB9B-415C-9B4F-AC638AA4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687F7-62F2-4981-9897-013BC07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2D864-43AD-4375-82DE-FFDDC16E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848BC-3DC6-44C9-B320-0981978E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CEB19-A1EB-48B9-8614-DC0B837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483C4-B994-4DB9-BBD8-80ABED08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DCAD4-CC7C-4125-83A5-862473E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6B1CF-D583-46C9-9A19-B0FC522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7610B-9FFB-4770-A210-06B8210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7EB6-45CA-42F8-B87B-10F0C5E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9F91D-4E13-47A9-A1D9-1F61DFA1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5B7-1AFA-4399-BC1E-E9AC5EF1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007C-C480-4B49-9E3D-38BDC3D5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0973E-ED7A-4CA1-81A7-1BB8E4F7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53AB-8644-4CB5-90A1-9D6B1EA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7303-343A-4684-9131-085FB675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9D829-3FC3-40B3-B779-FCAA062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4087-8933-42E6-9A6C-D132865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C2ADA-970C-4528-985B-52A2D5B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3F1AF-219E-4D75-BB0D-B476837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A934-F76E-4E41-B998-7DFF71C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4DED7-088C-40ED-8A9F-84BD178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45F0-72A5-413F-A982-75969802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D8EF1-E0FB-4C53-B403-B719AC18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742E4-E7E7-413B-AB75-C2E4150C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61309-92EE-4B81-ACA1-158A12D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BBCAD8-C08F-411F-8C58-0260A8F3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131B06-D4B9-4256-A29D-F4A6FA46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5FA20A-68A9-4069-8840-B747CBF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E19452-E69B-4B9A-8371-0DE773F2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1375D-2CA8-4063-B2DF-C9CC1F2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9311EA-C6DA-437E-90F6-45C09B0F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72814B-356F-49EF-9FE6-7775745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8143-B15E-4D57-93DD-AB46F5D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7C6DBF-61C4-469B-B760-BBFCFD0A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499DC6-75FB-4E79-95B0-897147E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6EDA62-A216-4864-A05F-CDE3E60C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341181-D3A4-403C-9534-46FF185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BF86AC-3F7A-42C9-8F33-C943AD86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179-A7AA-4FF0-B1A4-8AE6765F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4FF-D46B-4E91-8831-6CB4B82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B46C-4512-418A-BA09-D77C237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097-B66F-4FA9-8A84-6ADAEE14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BF6-AF96-4556-9400-791344F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BD6-4E39-4248-B283-E0B01F7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D048-0B50-49B3-91F7-79725712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3853-8004-49C6-BEFE-E98CE76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AF7-056B-4275-8DED-D033B36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C32E-5CB5-4F46-8D4B-FE638F39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6AB-5C8E-402B-B627-CA902E66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5218-5B32-456D-963B-6A32ED7B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52E2-71CA-4E40-B3AD-9CBEF35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2D06-4428-4CDB-964A-09B6FA3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96C5-12FD-4659-B7B4-640B589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B95A-04B3-4F98-8ED0-8D798D23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6BF-A50A-4676-BF74-2C0A796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14A3-3675-4D2E-9C0C-466CD7A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53C1-2170-40DD-B923-DCF1941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5C05-48F9-4CE0-A035-BE97A47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D6E8-2CB9-47B6-8308-C2FBA45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00EE-2FC3-4B03-BA36-2D6B2A05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BF12-DAA3-47A7-B2D5-17739E8F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C8D8-9F78-473D-B701-9B3DC3ED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3D422-5153-49F2-BCE7-E4B8ABFC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B4783-33EA-4F7A-9447-622ED35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C3A5F-2D91-4966-BF28-CF7BB33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7B3-06EA-4D93-879E-F4F93FA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43416-E019-4B7F-ADD4-158A437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BBC42-D846-4BEC-ADA5-288CF7F1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DB15D-EAD5-4297-B107-701EA28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E9CC8-CAE1-458B-9F87-7F4475D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93635-ECC6-43A8-8DD6-F06C03D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7B94F-A049-4877-98EC-FB33289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6CF9D-2801-439E-9514-3BDF94A8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FD7DD-F6BE-48E1-A216-064AA9E9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65FB5-02AF-47AC-9B77-876BB787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4474-985E-4EEA-899B-9FA3150C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AB8-1D05-4E9D-96CD-C99D662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AD79-41F1-4AA1-80E9-1EF233D6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67AD-78FF-4BE3-8BF9-379D340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8324-59A0-4AAB-ACEF-D81FFB5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4C2DF-AF2B-44A8-BF08-7EDF3DC4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9E23-28DC-47AA-8EED-EC78FB4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868B-BB78-45B2-8DC3-0B1FDB8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5409-2442-4DDB-8A56-A61A186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22D62-47A7-4818-B134-72F07F8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3231-9DD1-47F1-87C0-C2723E0E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F842-064B-421E-84B7-DD158CFA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6FB-E311-4573-A535-CBDE16A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C794-C22E-49E6-B532-1572E9E3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9099-E66D-4AC0-8E66-875EDCFA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CEB8-D496-4054-A72E-5F6F2C5F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801F-F05A-4124-9631-A5110D26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74C8-659E-4647-A596-9F1C15E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F0DC-0D84-4252-A743-D9940F08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AA94-3C96-4470-829B-600B8036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FDBF-A97B-4100-B6FD-FE2AFBD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8FC1-52F2-4686-96D0-5DF6A0BF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801C-5F90-4D3C-89A4-4C0BBF5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CCD-E80E-4E92-9164-C7A941B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196C-0F07-41B7-A043-9764DF0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AC8C-C7BC-4E8A-9A55-C5E4294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2C5E-D62A-4E8B-BA57-29BCD991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E84A9-F0A7-495B-B246-34CCF133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43091-DFB2-4A75-96A7-C6A9B92C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B7209-BA9C-4125-8302-14630F6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19013-CFEE-4939-8954-4D73A6B0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88951-F98B-4D8A-BEAF-8F73FBB1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9DCE4-E695-49DB-B2AE-4DA0ABB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0F6B3-D1E7-4ABA-9BA0-C8D9377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132-0366-415C-90FD-8884872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11D70-7043-49D2-93F0-74191D8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29137-B835-4CCC-B2D6-0DB9EF2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8307C-F57A-49F8-BE0F-AF6F180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0659B-7C68-4769-AE43-8A02BBB2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C90E6-0980-4D8E-A8DB-5B7D16B4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7347-B4FF-4049-BA0F-053FE018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9B24-8CB6-46C5-85FF-1087A777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9E18-70F8-4C9D-A6B3-F9F77A01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82521-13CE-4B53-ABC4-88C2AC7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843D-4E76-49AA-B3F4-FB7B0860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7AA-2019-4732-B5DD-E9D9F89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DE1D-E3A4-462B-8A04-A64281B5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E5D8-4315-4961-B8F0-6CCCA507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C2FA-25D9-48C1-BB7D-5790367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3DB0-8633-4046-AB65-1878529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C880-A1A4-4191-AF05-3E19E7F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8A60F-8CF0-4C14-8EC2-FAAD4157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E024C-54A2-483D-952C-7E0C9353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3351D-22A5-4A05-B57F-CFB8EB5C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EBF9-3C6B-47BD-8A45-624E590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53DB7-6DA7-46F8-B5B2-CD2FD6A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F692-FA72-49E5-85A1-F45BF8613AF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1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D32-43BC-4BDE-BEF0-AB1C9E328D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31D1-ECE5-42D4-9BAC-29EE3EA5C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CD1-95DB-4418-86B4-F7C571E2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EE60-72FE-451F-955B-0E617CF84D8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BF46-880A-4CB0-BAF0-6E7AFBF9C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009-24A6-45AA-BFBF-B5E520053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B554-C9F3-43DC-9D7B-15D2D49B4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9DB3-1DA6-472A-89D2-D163F9E2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8A10-520D-464C-B841-94CBA8EA5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7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238E-6669-4055-A445-DCC8748D48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6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9EB4-55F2-431C-B10E-9560287FB4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Curlz MT"/>
              </a:rPr>
              <a:t>La mansion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Gigi"/>
              </a:rPr>
              <a:t>Por scarlet braganc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9bce5"/>
                </a:solidFill>
                <a:latin typeface="Rage Italic"/>
              </a:rPr>
              <a:t>la casa </a:t>
            </a:r>
            <a:br>
              <a:rPr sz="6000"/>
            </a:br>
            <a:r>
              <a:rPr b="0" lang="en-US" sz="6000" spc="-1" strike="noStrike">
                <a:solidFill>
                  <a:srgbClr val="49bce5"/>
                </a:solidFill>
                <a:latin typeface="Rage Italic"/>
              </a:rPr>
              <a:t>es muy grande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527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27a"/>
                </a:solidFill>
                <a:latin typeface="Imprint MT Shadow"/>
              </a:rPr>
              <a:t>El bano</a:t>
            </a:r>
            <a:br>
              <a:rPr sz="4000"/>
            </a:br>
            <a:r>
              <a:rPr b="1" lang="en-US" sz="4000" spc="-1" strike="noStrike">
                <a:solidFill>
                  <a:srgbClr val="f8427a"/>
                </a:solidFill>
                <a:latin typeface="Imprint MT Shadow"/>
              </a:rPr>
              <a:t>       la baño es muy boñi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a40a1"/>
                </a:solidFill>
                <a:latin typeface="Arial Black"/>
              </a:rPr>
              <a:t>La Cocina</a:t>
            </a:r>
            <a:br>
              <a:rPr sz="4400"/>
            </a:br>
            <a:r>
              <a:rPr b="1" lang="en-US" sz="4400" spc="-1" strike="noStrike">
                <a:solidFill>
                  <a:srgbClr val="fa40a1"/>
                </a:solidFill>
                <a:latin typeface="Arial Black"/>
              </a:rPr>
              <a:t>     es Grande e Fabulos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Tahoma"/>
              </a:rPr>
              <a:t>El Cuarto</a:t>
            </a:r>
            <a:br>
              <a:rPr sz="4000"/>
            </a:br>
            <a:r>
              <a:rPr b="0" lang="en-US" sz="4000" spc="-1" strike="noStrike">
                <a:solidFill>
                  <a:srgbClr val="cc00ff"/>
                </a:solidFill>
                <a:latin typeface="Tahoma"/>
              </a:rPr>
              <a:t>Es Muy Comodo e Lujoso!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nap ITC"/>
              </a:rPr>
              <a:t>La comedor muy lind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Rockwell Extra Bold"/>
              </a:rPr>
              <a:t>    </a:t>
            </a:r>
            <a:r>
              <a:rPr b="0" lang="en-US" sz="4400" spc="-1" strike="noStrike">
                <a:solidFill>
                  <a:srgbClr val="3333ff"/>
                </a:solidFill>
                <a:latin typeface="Rockwell Extra Bold"/>
              </a:rPr>
              <a:t>El Patio! E muy </a:t>
            </a:r>
            <a:r>
              <a:rPr b="0" lang="en-US" sz="4400" spc="-1" strike="noStrike">
                <a:solidFill>
                  <a:srgbClr val="cc00ff"/>
                </a:solidFill>
                <a:latin typeface="Tahoma"/>
              </a:rPr>
              <a:t>Lujoso!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99ff33"/>
                </a:solidFill>
                <a:latin typeface="Tahoma"/>
              </a:rPr>
              <a:t>El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33"/>
                </a:solidFill>
                <a:latin typeface="Tahoma"/>
              </a:rPr>
              <a:t>Jardin e muy boni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e muy gran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0769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7:55Z</dcterms:created>
  <dc:creator>bragancasca</dc:creator>
  <dc:description/>
  <dc:language>en-US</dc:language>
  <cp:lastModifiedBy>bragancasca</cp:lastModifiedBy>
  <dcterms:modified xsi:type="dcterms:W3CDTF">2011-04-13T13:29:00Z</dcterms:modified>
  <cp:revision>6</cp:revision>
  <dc:subject/>
  <dc:title>La mansion</dc:title>
</cp:coreProperties>
</file>